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D489-2A39-40DE-ACEE-40A63A2B9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F8F6-2224-4812-B638-44AD5A9D5469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EA62-F6E9-4C3C-A449-5EAB5DD76B34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C663-9978-4890-A14F-B414CB1C7870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D61B-6494-4631-9918-07F3D94E19D3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86E7-0BEF-4790-BFE2-FB1D226A6D21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3BCF-6501-41AE-9760-81E4AE50A201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79E7-4C5F-4A0D-9968-DD09D8738231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124-42E1-410A-917B-12590BD0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7E4-B064-4A4E-B0E0-B16C1A12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73C-1CE5-439A-A63D-052B80E4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C77-FDCE-471D-BA3A-F9E5ECB8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849D-62AA-464A-9AC3-839A206B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3280-5CE9-4DE4-8CB3-E96082EF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A3AD-278B-4560-ACA3-445906B2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841B-AF23-417C-9945-83BDE313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D0D6-BADC-4F21-9065-73E0B756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1776-E949-46B7-827A-42C12B75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4338-0FC9-40CB-8051-6DAB914B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406-BF83-48C0-9694-64E4E07E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2B33-A435-4C33-B1A7-26144AA8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8055-DE62-44CD-9A92-5EAC1E60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93B7-27CD-4424-873F-2F66E608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A84A-BE8E-4068-A321-C369F715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325D-C261-4C40-A104-92CA6F67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673-76E6-4DBE-BFA4-C21EEEB0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0C6-A51A-466B-A8AD-FCDAE92A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A17-49D4-4936-BCDC-5F0D25FD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17C-AD95-4B36-800F-96D4C277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ACF-B967-468E-B827-7614F340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B84-1259-49A9-8111-BA04BDC7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F69-F1E6-48E4-A66F-B8E95A1A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F15A-688D-4F9A-BC9A-A9DB12E5F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DD19-B9D6-41F0-B048-37D573F2229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95680" y="-360"/>
            <a:ext cx="46483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s vacaciones a Méxic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0" y="320040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Caley Hennesse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4" descr="mexicofan (1)"/>
          <p:cNvPicPr/>
          <p:nvPr/>
        </p:nvPicPr>
        <p:blipFill>
          <a:blip r:embed="rId1"/>
          <a:stretch/>
        </p:blipFill>
        <p:spPr>
          <a:xfrm>
            <a:off x="0" y="0"/>
            <a:ext cx="4495680" cy="3187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beach 1"/>
          <p:cNvPicPr/>
          <p:nvPr/>
        </p:nvPicPr>
        <p:blipFill>
          <a:blip r:embed="rId2"/>
          <a:stretch/>
        </p:blipFill>
        <p:spPr>
          <a:xfrm>
            <a:off x="0" y="4191120"/>
            <a:ext cx="3276720" cy="2666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download"/>
          <p:cNvPicPr/>
          <p:nvPr/>
        </p:nvPicPr>
        <p:blipFill>
          <a:blip r:embed="rId3"/>
          <a:stretch/>
        </p:blipFill>
        <p:spPr>
          <a:xfrm>
            <a:off x="4419720" y="3657600"/>
            <a:ext cx="3962160" cy="2637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52680" y="228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Balnari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Querida Ofek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Arial"/>
              </a:rPr>
              <a:t>¡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la! Hace mucho bien tiempo. Hoy lleg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Arial"/>
              </a:rPr>
              <a:t>è Gran Melia Cancun. Dia una lleva Cancun Dolphin Swim. Manana, voy a la playa. Yo trajo tres traje de bano, camisetas y pantalone cortos.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Arial"/>
              </a:rPr>
              <a:t>Un Abrazo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Arial"/>
              </a:rPr>
              <a:t>Caley Hennesse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Picture 4" descr="hotel"/>
          <p:cNvPicPr/>
          <p:nvPr/>
        </p:nvPicPr>
        <p:blipFill>
          <a:blip r:embed="rId1"/>
          <a:stretch/>
        </p:blipFill>
        <p:spPr>
          <a:xfrm>
            <a:off x="0" y="0"/>
            <a:ext cx="3200400" cy="2203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swim with dolphins"/>
          <p:cNvPicPr/>
          <p:nvPr/>
        </p:nvPicPr>
        <p:blipFill>
          <a:blip r:embed="rId2"/>
          <a:stretch/>
        </p:blipFill>
        <p:spPr>
          <a:xfrm>
            <a:off x="5486400" y="502920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Playa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Querida Emily Susan Tish Lange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la. Hace buen tiempa en la playa. Hace sol. Yo fui nadé en la mar. Fui el surfing y parasailing. Olas no prequenas. Olas grandes. Yo no fui buecea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n Abrazo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ley Hennesse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4" descr="beach"/>
          <p:cNvPicPr/>
          <p:nvPr/>
        </p:nvPicPr>
        <p:blipFill>
          <a:blip r:embed="rId1"/>
          <a:stretch/>
        </p:blipFill>
        <p:spPr>
          <a:xfrm>
            <a:off x="0" y="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parasailing"/>
          <p:cNvPicPr/>
          <p:nvPr/>
        </p:nvPicPr>
        <p:blipFill>
          <a:blip r:embed="rId2"/>
          <a:stretch/>
        </p:blipFill>
        <p:spPr>
          <a:xfrm>
            <a:off x="5638680" y="4632480"/>
            <a:ext cx="3505320" cy="2225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95480" y="152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Restaurant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Querida Ofek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la. Hace mal tiempo. Yo fui a Restaurante Los Danzantes. Es muy bonita y </a:t>
            </a: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delicioso. Yo compro tacos, buritos, casadias, nachos y leche. Me guesta la restaurant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Un Abrazo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Caley Hennessey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4" descr="a rest"/>
          <p:cNvPicPr/>
          <p:nvPr/>
        </p:nvPicPr>
        <p:blipFill>
          <a:blip r:embed="rId1"/>
          <a:stretch/>
        </p:blipFill>
        <p:spPr>
          <a:xfrm>
            <a:off x="5486400" y="4686480"/>
            <a:ext cx="3276720" cy="2171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rest"/>
          <p:cNvPicPr/>
          <p:nvPr/>
        </p:nvPicPr>
        <p:blipFill>
          <a:blip r:embed="rId2"/>
          <a:stretch/>
        </p:blipFill>
        <p:spPr>
          <a:xfrm>
            <a:off x="0" y="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68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68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68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35268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 Tienda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Querida Emily Susan Tish Lange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la. Hace mal tiempo. Hoy fui a las tiendas. Compro las gafas de sol y toalla. Yo tiena viente dolares.  Fui a Walmart en Mexico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n Abrazo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ley Hennesse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4" descr="walmart"/>
          <p:cNvPicPr/>
          <p:nvPr/>
        </p:nvPicPr>
        <p:blipFill>
          <a:blip r:embed="rId1"/>
          <a:stretch/>
        </p:blipFill>
        <p:spPr>
          <a:xfrm>
            <a:off x="5029200" y="4419720"/>
            <a:ext cx="3886200" cy="2438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store"/>
          <p:cNvPicPr/>
          <p:nvPr/>
        </p:nvPicPr>
        <p:blipFill>
          <a:blip r:embed="rId2"/>
          <a:stretch/>
        </p:blipFill>
        <p:spPr>
          <a:xfrm>
            <a:off x="228600" y="152280"/>
            <a:ext cx="274176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98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9880" y="152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Ten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Querida Ofek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la. Hace buen tiempo. Fui ir jugar tenis. Jugue con mi amigo Pablo. Lo conoci en la playa. Soy mal en el tenis. ¡Hasta leugo!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n Abrazo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ley Hennesse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4" descr="tennnnis"/>
          <p:cNvPicPr/>
          <p:nvPr/>
        </p:nvPicPr>
        <p:blipFill>
          <a:blip r:embed="rId1"/>
          <a:stretch/>
        </p:blipFill>
        <p:spPr>
          <a:xfrm>
            <a:off x="152280" y="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tenis"/>
          <p:cNvPicPr/>
          <p:nvPr/>
        </p:nvPicPr>
        <p:blipFill>
          <a:blip r:embed="rId2"/>
          <a:stretch/>
        </p:blipFill>
        <p:spPr>
          <a:xfrm>
            <a:off x="4572000" y="4419720"/>
            <a:ext cx="342900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-3208320"/>
            <a:ext cx="60948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Arial Black"/>
              </a:rPr>
              <a:t>The End!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12" descr="Copy of me3xico"/>
          <p:cNvPicPr/>
          <p:nvPr/>
        </p:nvPicPr>
        <p:blipFill>
          <a:blip r:embed="rId1"/>
          <a:stretch/>
        </p:blipFill>
        <p:spPr>
          <a:xfrm>
            <a:off x="0" y="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3" descr="Copy of mexico"/>
          <p:cNvPicPr/>
          <p:nvPr/>
        </p:nvPicPr>
        <p:blipFill>
          <a:blip r:embed="rId2"/>
          <a:stretch/>
        </p:blipFill>
        <p:spPr>
          <a:xfrm>
            <a:off x="2895480" y="0"/>
            <a:ext cx="2895840" cy="2057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4" descr="Copy of mexico"/>
          <p:cNvPicPr/>
          <p:nvPr/>
        </p:nvPicPr>
        <p:blipFill>
          <a:blip r:embed="rId3"/>
          <a:stretch/>
        </p:blipFill>
        <p:spPr>
          <a:xfrm>
            <a:off x="7543800" y="0"/>
            <a:ext cx="1600200" cy="2971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5" descr="Copy of mexxxx"/>
          <p:cNvPicPr/>
          <p:nvPr/>
        </p:nvPicPr>
        <p:blipFill>
          <a:blip r:embed="rId4"/>
          <a:stretch/>
        </p:blipFill>
        <p:spPr>
          <a:xfrm>
            <a:off x="0" y="3048120"/>
            <a:ext cx="2685960" cy="1904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6" descr="Copy of mexiiiiiiico"/>
          <p:cNvPicPr/>
          <p:nvPr/>
        </p:nvPicPr>
        <p:blipFill>
          <a:blip r:embed="rId5"/>
          <a:stretch/>
        </p:blipFill>
        <p:spPr>
          <a:xfrm>
            <a:off x="5791320" y="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7" descr="Copy of mexxico"/>
          <p:cNvPicPr/>
          <p:nvPr/>
        </p:nvPicPr>
        <p:blipFill>
          <a:blip r:embed="rId6"/>
          <a:stretch/>
        </p:blipFill>
        <p:spPr>
          <a:xfrm>
            <a:off x="2666880" y="2971800"/>
            <a:ext cx="2743200" cy="190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8" descr="mexxxxico"/>
          <p:cNvPicPr/>
          <p:nvPr/>
        </p:nvPicPr>
        <p:blipFill>
          <a:blip r:embed="rId7"/>
          <a:stretch/>
        </p:blipFill>
        <p:spPr>
          <a:xfrm>
            <a:off x="5410080" y="2971800"/>
            <a:ext cx="2133720" cy="1924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9" descr="Copy of mexiiiico"/>
          <p:cNvPicPr/>
          <p:nvPr/>
        </p:nvPicPr>
        <p:blipFill>
          <a:blip r:embed="rId8"/>
          <a:stretch/>
        </p:blipFill>
        <p:spPr>
          <a:xfrm>
            <a:off x="7543800" y="29718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0" descr="mexican"/>
          <p:cNvPicPr/>
          <p:nvPr/>
        </p:nvPicPr>
        <p:blipFill>
          <a:blip r:embed="rId9"/>
          <a:stretch/>
        </p:blipFill>
        <p:spPr>
          <a:xfrm>
            <a:off x="0" y="4876920"/>
            <a:ext cx="2400480" cy="2133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1" descr="meexx"/>
          <p:cNvPicPr/>
          <p:nvPr/>
        </p:nvPicPr>
        <p:blipFill>
          <a:blip r:embed="rId10"/>
          <a:stretch/>
        </p:blipFill>
        <p:spPr>
          <a:xfrm>
            <a:off x="2362320" y="4876920"/>
            <a:ext cx="2581200" cy="2133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2" descr="mexico"/>
          <p:cNvPicPr/>
          <p:nvPr/>
        </p:nvPicPr>
        <p:blipFill>
          <a:blip r:embed="rId11"/>
          <a:stretch/>
        </p:blipFill>
        <p:spPr>
          <a:xfrm>
            <a:off x="4952880" y="4876920"/>
            <a:ext cx="1828800" cy="2133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3" descr="mexicooo"/>
          <p:cNvPicPr/>
          <p:nvPr/>
        </p:nvPicPr>
        <p:blipFill>
          <a:blip r:embed="rId12"/>
          <a:stretch/>
        </p:blipFill>
        <p:spPr>
          <a:xfrm>
            <a:off x="0" y="2057400"/>
            <a:ext cx="1828800" cy="990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4" descr="mexicoooo"/>
          <p:cNvPicPr/>
          <p:nvPr/>
        </p:nvPicPr>
        <p:blipFill>
          <a:blip r:embed="rId13"/>
          <a:stretch/>
        </p:blipFill>
        <p:spPr>
          <a:xfrm>
            <a:off x="6753240" y="4800600"/>
            <a:ext cx="239076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5:46:47Z</dcterms:created>
  <dc:creator>hennesseycal</dc:creator>
  <dc:description/>
  <dc:language>en-US</dc:language>
  <cp:lastModifiedBy>Joseph F. Hennessey</cp:lastModifiedBy>
  <dcterms:modified xsi:type="dcterms:W3CDTF">2012-12-05T22:21:02Z</dcterms:modified>
  <cp:revision>18</cp:revision>
  <dc:subject/>
  <dc:title>Mis vacaciones a México</dc:title>
</cp:coreProperties>
</file>